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B8C-295E-4E61-8CFC-8630EAA7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A26-2BA0-4036-8150-02F73748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3D3-41BD-41C8-9EE5-262A02B9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EA9-048D-4FE9-839E-E0FF4D63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D7B-FD5A-47CF-BC1A-41D279AD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569-A683-4F5B-A357-922DADEB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961-AAA7-411E-84DC-2EB0B36E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DAC-C2E7-4355-B009-49159CE1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E27-B745-42D7-92C6-3326B543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3BA-4B12-4B61-9830-A7AE4458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9B8-7412-4372-ADA5-37D95B41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BA4-07DC-4CA1-A882-EAFB02ED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6934-3FCC-4D31-B620-773323209E3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Par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65C-4109-40FB-8D32-EB42267AE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mmanuel.leray@ac-nantes.fr" TargetMode="External"/><Relationship Id="rId3" Type="http://schemas.openxmlformats.org/officeDocument/2006/relationships/hyperlink" Target="http://www.ac-nantes.fr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755640" y="333360"/>
            <a:ext cx="2541600" cy="2736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411280" y="2852640"/>
            <a:ext cx="41040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 u="sng">
                <a:solidFill>
                  <a:srgbClr val="000000"/>
                </a:solidFill>
                <a:uFillTx/>
                <a:latin typeface="Arial"/>
              </a:rPr>
              <a:t>Diaporama  PSC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606400" y="5464080"/>
            <a:ext cx="2058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Bauhaus 93"/>
                <a:hlinkClick r:id="rId2"/>
              </a:rPr>
              <a:t>Emmanuel LE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"/>
          <p:cNvSpPr/>
          <p:nvPr/>
        </p:nvSpPr>
        <p:spPr>
          <a:xfrm>
            <a:off x="2693880" y="5094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auhaus 93"/>
              </a:rPr>
              <a:t>Réalisé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http://lp-branly-85.ac-nantes.fr/images/040_logo_academi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5280" y="4940280"/>
            <a:ext cx="23126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6" descr=""/>
          <p:cNvPicPr/>
          <p:nvPr/>
        </p:nvPicPr>
        <p:blipFill>
          <a:blip r:embed="rId2"/>
          <a:stretch/>
        </p:blipFill>
        <p:spPr>
          <a:xfrm>
            <a:off x="1511280" y="-165240"/>
            <a:ext cx="5383080" cy="1792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465120" y="1476360"/>
            <a:ext cx="8424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À la fin de cette partie, je serai capable, face à une victime qui présente un traumatisme (autre que celui de la peau), d’en reconnaitre les signes et de réaliser les gestes de secours adaptés et nécessaires.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www.medicalorama.com/media/files/visuels/sport/sport_traumatisme_genou.jpg"/>
          <p:cNvPicPr/>
          <p:nvPr/>
        </p:nvPicPr>
        <p:blipFill>
          <a:blip r:embed="rId3"/>
          <a:stretch/>
        </p:blipFill>
        <p:spPr>
          <a:xfrm>
            <a:off x="7524720" y="371520"/>
            <a:ext cx="1076400" cy="712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image_preview"/>
          <p:cNvPicPr/>
          <p:nvPr/>
        </p:nvPicPr>
        <p:blipFill>
          <a:blip r:embed="rId4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86A6-3879-4C8B-86DD-239F8AB66963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.istockimg.com/file_thumbview_approve/3060489/2/stock-photo-3060489-paperboard.jpg"/>
          <p:cNvPicPr/>
          <p:nvPr/>
        </p:nvPicPr>
        <p:blipFill>
          <a:blip r:embed="rId1"/>
          <a:stretch/>
        </p:blipFill>
        <p:spPr>
          <a:xfrm>
            <a:off x="7491240" y="228600"/>
            <a:ext cx="1616400" cy="1914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secourisme.info/imageweb/psc1_2.gif"/>
          <p:cNvPicPr/>
          <p:nvPr/>
        </p:nvPicPr>
        <p:blipFill>
          <a:blip r:embed="rId2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image_preview"/>
          <p:cNvPicPr/>
          <p:nvPr/>
        </p:nvPicPr>
        <p:blipFill>
          <a:blip r:embed="rId3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4336-D6A2-4263-A745-29D3F18C2A5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4"/>
          <a:stretch/>
        </p:blipFill>
        <p:spPr>
          <a:xfrm>
            <a:off x="900000" y="1839960"/>
            <a:ext cx="7035840" cy="425304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11"/>
          <p:cNvSpPr/>
          <p:nvPr/>
        </p:nvSpPr>
        <p:spPr>
          <a:xfrm>
            <a:off x="1368360" y="13032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alysons les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’elle peut en être la cau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la vous est-il arrivé ou bien à l’un de vos proch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risque la victim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feriez vou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http://i.istockimg.com/file_thumbview_approve/7293609/2/stock-photo-7293609-question-mark-key-i.jpg"/>
          <p:cNvPicPr/>
          <p:nvPr/>
        </p:nvPicPr>
        <p:blipFill>
          <a:blip r:embed="rId5"/>
          <a:stretch/>
        </p:blipFill>
        <p:spPr>
          <a:xfrm>
            <a:off x="1187280" y="981000"/>
            <a:ext cx="11527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image_preview"/>
          <p:cNvPicPr/>
          <p:nvPr/>
        </p:nvPicPr>
        <p:blipFill>
          <a:blip r:embed="rId2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CC30-AB83-439B-8912-FBAF3EA7A001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684360" y="142416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Assistez à une démonstration en la guidant ou en intervenan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1" descr=""/>
          <p:cNvPicPr/>
          <p:nvPr/>
        </p:nvPicPr>
        <p:blipFill>
          <a:blip r:embed="rId3"/>
          <a:stretch/>
        </p:blipFill>
        <p:spPr>
          <a:xfrm>
            <a:off x="3498840" y="438120"/>
            <a:ext cx="21160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image_preview"/>
          <p:cNvPicPr/>
          <p:nvPr/>
        </p:nvPicPr>
        <p:blipFill>
          <a:blip r:embed="rId2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DFD7-E582-43B4-949E-149D587F72E8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"/>
          <p:cNvSpPr/>
          <p:nvPr/>
        </p:nvSpPr>
        <p:spPr>
          <a:xfrm>
            <a:off x="1440000" y="1558800"/>
            <a:ext cx="6192720" cy="1068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erdire tout mou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e pas mobiliser la vic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lesremplacants.files.wordpress.com/2012/10/eduardo-blessure.jpg?w=463&amp;h=307"/>
          <p:cNvPicPr/>
          <p:nvPr/>
        </p:nvPicPr>
        <p:blipFill>
          <a:blip r:embed="rId3"/>
          <a:stretch/>
        </p:blipFill>
        <p:spPr>
          <a:xfrm>
            <a:off x="2370240" y="2637000"/>
            <a:ext cx="4314600" cy="28288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2"/>
          <p:cNvSpPr/>
          <p:nvPr/>
        </p:nvSpPr>
        <p:spPr>
          <a:xfrm>
            <a:off x="2370240" y="476280"/>
            <a:ext cx="59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n cas de traumatis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image_preview"/>
          <p:cNvPicPr/>
          <p:nvPr/>
        </p:nvPicPr>
        <p:blipFill>
          <a:blip r:embed="rId2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4947-F27E-4128-9B55-D923FD10F8DB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fotosearch.fr/bthumb/CSP/CSP165/k1653725.jpg"/>
          <p:cNvPicPr/>
          <p:nvPr/>
        </p:nvPicPr>
        <p:blipFill>
          <a:blip r:embed="rId3"/>
          <a:stretch/>
        </p:blipFill>
        <p:spPr>
          <a:xfrm>
            <a:off x="7002360" y="312840"/>
            <a:ext cx="1619280" cy="10094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2670120" y="14130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TOUR D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460440" y="2136600"/>
            <a:ext cx="8504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lles est la conduite à tenir face à un traumatisme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membre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la nuque ou du 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u thorax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l’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1" descr=""/>
          <p:cNvPicPr/>
          <p:nvPr/>
        </p:nvPicPr>
        <p:blipFill>
          <a:blip r:embed="rId4"/>
          <a:stretch/>
        </p:blipFill>
        <p:spPr>
          <a:xfrm>
            <a:off x="2548080" y="390600"/>
            <a:ext cx="37558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://www.secourisme.info/imageweb/psc1_2.gif"/>
          <p:cNvPicPr/>
          <p:nvPr/>
        </p:nvPicPr>
        <p:blipFill>
          <a:blip r:embed="rId1"/>
          <a:stretch/>
        </p:blipFill>
        <p:spPr>
          <a:xfrm>
            <a:off x="250920" y="260280"/>
            <a:ext cx="868320" cy="936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936800" y="623736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e 7 : TRAUMATISME OI.7 / OS: 7.1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image_preview"/>
          <p:cNvPicPr/>
          <p:nvPr/>
        </p:nvPicPr>
        <p:blipFill>
          <a:blip r:embed="rId2"/>
          <a:stretch/>
        </p:blipFill>
        <p:spPr>
          <a:xfrm>
            <a:off x="250920" y="6093000"/>
            <a:ext cx="426960" cy="44280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10"/>
          <p:cNvSpPr/>
          <p:nvPr/>
        </p:nvSpPr>
        <p:spPr>
          <a:xfrm>
            <a:off x="8459640" y="63644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EF7-366A-4F3B-8DAF-E1230A422852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" descr=""/>
          <p:cNvPicPr/>
          <p:nvPr/>
        </p:nvPicPr>
        <p:blipFill>
          <a:blip r:embed="rId3"/>
          <a:stretch/>
        </p:blipFill>
        <p:spPr>
          <a:xfrm>
            <a:off x="2548080" y="390600"/>
            <a:ext cx="3755880" cy="6271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1" descr=""/>
          <p:cNvPicPr/>
          <p:nvPr/>
        </p:nvPicPr>
        <p:blipFill>
          <a:blip r:embed="rId4"/>
          <a:stretch/>
        </p:blipFill>
        <p:spPr>
          <a:xfrm>
            <a:off x="1590840" y="2487600"/>
            <a:ext cx="55353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3:33:20Z</dcterms:created>
  <dc:creator>Emmanuel Leray</dc:creator>
  <dc:description/>
  <dc:language>en-US</dc:language>
  <cp:lastModifiedBy>salle T3</cp:lastModifiedBy>
  <dcterms:modified xsi:type="dcterms:W3CDTF">2013-03-25T15:58:50Z</dcterms:modified>
  <cp:revision>232</cp:revision>
  <dc:subject/>
  <dc:title>Diapositive 1</dc:title>
</cp:coreProperties>
</file>